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A9F49-1E55-44C3-A51C-357ACAC6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271B08-6136-4180-9B46-BAD580CB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80821-5412-428E-876E-30C82386A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D4F7B6-B7A5-4EDB-9EDE-0EB04D4D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4421C5-3582-4A3D-B560-E9517632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3A533-BADD-4074-824B-AA4F7D1F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772A8-D64E-4917-9E43-57EC13D8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7636F-C795-48C0-8A56-53518D64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6F7D6-80F1-4375-AC54-83183CF9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5829-CD26-44D3-9344-119A6C34D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73D1-D335-4B20-AAD9-23D5A4BE3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E02C-5A3A-41AE-A72E-E6C74EE8A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2E1C-4D13-480A-B600-C41B5423F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2A40-D1B5-4282-94E2-0257A10AC5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4281-689F-4889-AAC1-2CBC783B2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1905-1B2E-411A-BD3C-9AF8F822F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5F38-B06D-4D29-9D58-524510679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4D4C-62A2-45DA-9532-28D5D22AF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B01B-BF43-4EE1-825E-08DEC7B61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83C4-58C6-444A-A748-DE65DC00F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35BD-C7E6-42EF-A7FA-4C613A68C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BF0ECDB4-2563-4F19-8038-75F8BD3EB7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FC4B86BB-365C-4797-8C75-C77A4EE0A6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807696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vez déjà appris le groupe des verb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un infinitif qui finit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s verbs 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ent un second groupe. Certains verbes communs de ce groupe sont irrégul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DA6F3B69-8C1C-4A65-BB8E-42D7395BCF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6953400" cy="20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1447920" y="5105520"/>
            <a:ext cx="6237000" cy="1344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09480" y="1676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2483c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ime l’idée de quitter une pièce ou un bâtiment. Il exprime également l’idée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ing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vec des amis ou en amoureux. La préposition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utilisée après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rsqu’un lieu est mentionn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924DC716-C476-4D92-B783-8F0A8A424B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729468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C454B540-0659-4F76-BC19-04293AD197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250640"/>
            <a:ext cx="8458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général,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 utilisé pour exprimer l’idée de départ d’un lieu de taille importante, comme une ville, un pays ou une région. Souvent, on utilise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arti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et la préposition </a:t>
            </a:r>
            <a:r>
              <a:rPr b="1" lang="en-US" sz="2300" spc="-1" strike="noStrike">
                <a:solidFill>
                  <a:srgbClr val="2483c8"/>
                </a:solidFill>
                <a:latin typeface="Arial"/>
              </a:rPr>
              <a:t>pou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vec le nom de la destination pour dir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o leave for (a place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523880" y="3024360"/>
            <a:ext cx="6096240" cy="169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1603440" y="4673520"/>
            <a:ext cx="593712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9A26F6B1-34EB-48E1-907E-79B4FBED6A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990720" y="2577960"/>
            <a:ext cx="7391160" cy="3594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739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i une liste de verbes conjugués comm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o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par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2F7D752F-284E-4146-B3F2-5D0CCA3913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1028880" y="1486080"/>
            <a:ext cx="7086600" cy="2973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019240" y="4610160"/>
            <a:ext cx="541044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C43D489F-5772-4ADB-B1F4-DAAB04DEE5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7748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Sent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ut signifi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fe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m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523880" y="2558880"/>
            <a:ext cx="640080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A.2-</a:t>
            </a:r>
            <a:fld id="{DC4089AC-3D8A-43C1-9855-3C330537E8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547560" y="1371600"/>
            <a:ext cx="804888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762120" y="2590920"/>
          <a:ext cx="7850160" cy="364176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36417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__________ (sortir) vers neuf heur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__________ (servir) des boissons gazeuses aux invité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__________ (partir) quand pour le Canada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e __________ (dormir) pas en cour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__________ (courir) pour attraper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t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le bu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anges des oignons? Ça __________ (sentir) mauvai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__________ (sortir) avec des copains ce soir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24"/>
                        </a:spcBef>
                        <a:spcAft>
                          <a:spcPts val="624"/>
                        </a:spcAft>
                        <a:tabLst>
                          <a:tab algn="l" pos="0"/>
                          <a:tab algn="l" pos="399960"/>
                          <a:tab algn="l" pos="912960"/>
                          <a:tab algn="l" pos="1827360"/>
                          <a:tab algn="l" pos="2741760"/>
                          <a:tab algn="l" pos="3656160"/>
                          <a:tab algn="l" pos="4570560"/>
                          <a:tab algn="l" pos="5484960"/>
                          <a:tab algn="l" pos="6399360"/>
                          <a:tab algn="l" pos="7313760"/>
                          <a:tab algn="l" pos="8228160"/>
                          <a:tab algn="l" pos="9142560"/>
                          <a:tab algn="l" pos="1005696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__________ (partir) pour Dijon ce week-en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"/>
          <p:cNvSpPr/>
          <p:nvPr/>
        </p:nvSpPr>
        <p:spPr>
          <a:xfrm>
            <a:off x="932040" y="1555920"/>
            <a:ext cx="7716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1468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u verb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057400" y="2592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483c8"/>
                </a:solidFill>
                <a:latin typeface="Comic Sans MS"/>
              </a:rPr>
              <a:t>sor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5:07:18Z</dcterms:created>
  <dc:creator>© 2011 Vista Higher Learning. All rights reserved.</dc:creator>
  <dc:description/>
  <cp:keywords/>
  <dc:language>en-US</dc:language>
  <cp:lastModifiedBy>Viviane Grebert</cp:lastModifiedBy>
  <dcterms:modified xsi:type="dcterms:W3CDTF">2011-10-02T22:53:37Z</dcterms:modified>
  <cp:revision>65</cp:revision>
  <dc:subject>Espaces: Rendez-vous avec le monde francophone, Second Edition</dc:subject>
  <dc:title>Unité 5: Les loisirs</dc:title>
</cp:coreProperties>
</file>